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304-C11D-4EF8-BBEA-F93ED2AB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7AD-776C-4373-B7FB-5010C315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DF1-39DC-4645-9EEC-F2A6A750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645-6ABF-4E44-816F-C3B2FD74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53B1-8062-4C29-94B8-CCDA2D65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D4E3-B795-4E25-8911-683E9450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0BEA-3EFF-4DC4-9F4B-84B36C75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18B1-853B-445F-B602-7F0EF8DA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3FD5-6DD0-4059-B962-3067BFBB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C5BF-76BC-4790-8C21-84DB378D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B8B6-7697-4131-B459-B6E2F2F4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6F0-46E5-46D1-843C-8C89FEC8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7913-27DD-4183-A3AC-BF4639BE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4C7F-2828-43F0-A89E-D8F2C299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2EFC-D239-4B55-ABF4-8B4E9729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D5C1-1907-4BC7-B39E-CE5AC638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1C87-E32A-41B4-841F-944302CE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7A3-9547-4AAC-A212-34397DF2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56C-9E83-45B5-AAEB-80B1AB76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E5E-5ACC-41B8-97EA-CF8A5D8C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DF4-8EC7-4C50-AE86-FB6B7E38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CFE-94AC-49E9-BD81-E3E4C815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DBD-4BB1-4A7C-9FE7-0B4D930B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6C5-8844-4268-A895-C324CE2D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AE17-27F4-4A13-AADD-ED7611811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4FAD-2955-4DF5-A9B5-F9D400029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752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ee320c"/>
                </a:solidFill>
                <a:latin typeface="Times New Roman"/>
              </a:rPr>
              <a:t>Өлшем құралдарының түрлері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Өлшемдік түрлендіргіш</a:t>
            </a:r>
            <a:r>
              <a:rPr b="1" i="1" lang="ru-RU" sz="4400" spc="-1" strike="noStrike">
                <a:solidFill>
                  <a:srgbClr val="ee320c"/>
                </a:solidFill>
                <a:latin typeface="Times New Roman"/>
              </a:rPr>
              <a:t>.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Өлшемдік түрлендіргіш – өлшеуіш ақпараттың сигналын өңдеу немесе сақтау үшін, сондай-ақ көрсеткіш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ылғыға беру үшін қолайлы күйге түрлендіру қызметін атқаратын өлшем қүралы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Өлшемдік түрлендіргіштерге өлшеуіш аспаптардың конструкторлық с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басына (сызбасына) кіреді, не онымен бірге қолданылады, бірақ түрлендіргіштің сигналдары бақылаушыға тікелей сезілмейді. Мысалы, түрлендіргіш кернеуді күшейту үшін, компьютер жадысына ақпаратты жіберу үшін қажет болуы мүмкін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үрленетін шаманы </a:t>
            </a: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кіруші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, ал түрлендіру нәтижесін – </a:t>
            </a: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шығушы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шама деп атайды. Өлшеуіш түрлендіргіштің негізгі метрологиялық сипаты болып, </a:t>
            </a: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түрлену функциясы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деп аталатын кіруші және шығушы шамалар қатынасы саналады.</a:t>
            </a:r>
            <a:r>
              <a:rPr b="1" lang="kk-KZ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үрлендіргіштер мынадай болып бөлінеді: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алғашқ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– өлшенетін шаманы ті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елей қабылдайт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тасымалдауш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– шығысында шама тіркеу немесе ара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қашықтықта тасымалдау үшін ыңғайлы түрге ауысатын;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ара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л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ық түрлендіргіштер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– алғашқылармен бірге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ыс істентін және физикалық шаман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ң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тегін өзгертуге әсер етпейтін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Өлшеуіш аспаптар</a:t>
            </a:r>
            <a:r>
              <a:rPr b="1" i="1" lang="ru-RU" sz="4400" spc="-1" strike="noStrike">
                <a:solidFill>
                  <a:srgbClr val="ee320c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Өлшеуіш аспаптар – өлшеуіш ақпаратты пайдаланушыға қабылдауға ыңғайлы түрде алуға мүмкіндік беретін өлшем қ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алдары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Тікелей әсер ету аспаптар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сәйкес градуировкасы бар көрсету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ылғыларында өлшенетін шаманы бейнелейді. М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да физикалық шама тегі өзгермейді. Тікелей әсер ету аспаптарына, мысалы, амперметр, вольтметр, термометр жатад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Салыстыру аспаптар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өлшенетін шаманы мәні белгілі шамалармен салыстыруға арналған. Мұндай аспаптар ғылыми мақсаттарда кең қолданылады, сондай-ақ сәулелену көздерінің жарықтығы, сығылған ауаның қысымы сияқты шамаларды өлшеу үшін тәжірибеде кең қолданылады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Өлшеуіш 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ондыр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ғ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ылар мен жү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й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елер</a:t>
            </a:r>
            <a:r>
              <a:rPr b="1" i="1" lang="ru-RU" sz="4000" spc="-1" strike="noStrike">
                <a:solidFill>
                  <a:srgbClr val="ee320c"/>
                </a:solidFill>
                <a:latin typeface="Times New Roman"/>
              </a:rPr>
              <a:t>.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Өлшеуіш қондырғылар мен жүйелер – өлшем объектісінің бір немесе бірнеше физикалық шамасын өлшеу үшін, қосалқы қондырғылармең функционалдық белгісі бойынша біріктірілген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ың жиынтығы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63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Әдетте, мүндай жүйелер автоматтандырылған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ақпараттық жүйеге енуін, өлшеу процесінің автоматтандырылуын, пайдаланушы қабылдау үшін өлшеу нәтижелерінің өңделу мен сипатталуын қамтамасыз етеді. М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дай қондырғылар (жүйелер) бақылау үшін де пайдаланылады (мысалы, өндірістік үдері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ерді), ол әсіресе статистик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б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лау әдісі үшін, сондай-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сапаны бас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руда пайдаланылады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Өлшеуіш жабды</a:t>
            </a:r>
            <a:r>
              <a:rPr b="1" lang="kk-KZ" sz="4400" spc="-1" strike="noStrike">
                <a:solidFill>
                  <a:srgbClr val="ee320c"/>
                </a:solidFill>
                <a:latin typeface="Times New Roman"/>
              </a:rPr>
              <a:t>қ</a:t>
            </a: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тар.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Өлшеуіш жабд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ар – шаманы өлшеудің қосалқы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. Олар дәлдіктің жоғарғы деңгейі қажет болғанда өлшеу нәтижелеріне түзетулерді есептеу үшін қажет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846144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Шама бірлігін іс жүзінде өлшеу үшін нормаланған қателіктері бар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 деп аталатын техникалық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 қолданылады.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Өлшем 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ралдарына жататындар: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өлшемдер,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ө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шемдік түрлендірг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іш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ер, өлшеуіш аспаптар, өлшеуіш қондырғылар мен жүйелер, өлшеуіш жабдықтар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244080"/>
            <a:ext cx="87631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ысалы, егер аспаптың көрсетулері қатаң шектелген (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атта көрсетілген) температура кезінде д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 болса, термометр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салқы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 бола алады. Өлшеуіш жабдықтар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салқы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ың өзінің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теліктерімен байланысты өлшеулер нөтижелеріне белгілі бір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теліктерді енгізетінін ескерген жөн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етрология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ережелер бойынша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 екі түрге бөлінеді: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ж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мысшы өлшем 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ралдар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және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эталондар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Ж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мысшы өлшем қ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ралдар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техникалық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ылғылардың, технологиялық үдерістердің, сырт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 ортаның параметрлерін анықтау үшін қолданылад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ысшы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 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зертханалы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(ғылыми-зерттеулер үшін),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өндірістік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(технологиялық ү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рд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істердің сипаттамаларын қамтамасыз ету және бақылау үшін),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алаңды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(үша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ар, автомобильдер, кемелер үшін) болуы мүмкін.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ысшы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ың әрбір түрі айр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ша көрсеткіштерім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 ерекшеленеді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сылайша, өлшемнің </a:t>
            </a:r>
            <a:r>
              <a:rPr b="1" lang="kk-KZ" sz="3600" spc="-1" strike="noStrike">
                <a:solidFill>
                  <a:srgbClr val="ee320c"/>
                </a:solidFill>
                <a:latin typeface="Times New Roman"/>
              </a:rPr>
              <a:t>зертханалық</a:t>
            </a: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 қ</a:t>
            </a:r>
            <a:r>
              <a:rPr b="1" lang="kk-KZ" sz="3600" spc="-1" strike="noStrike">
                <a:solidFill>
                  <a:srgbClr val="ee320c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ралдары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ең д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 және сезгіш, ал олардың нәтижелері жоғары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ылықпен сипатталады. </a:t>
            </a: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Өндірістік </a:t>
            </a:r>
            <a:r>
              <a:rPr b="1" lang="kk-KZ" sz="3600" spc="-1" strike="noStrike">
                <a:solidFill>
                  <a:srgbClr val="ee320c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ралдар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өндірістік процестің түрлі факторлары: температура, ылғалдылық, т.б. сия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ы факторлардың әсеріне қарсы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у қасиетіне ие. </a:t>
            </a: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Алаңдық қүралдар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сыр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 әсер етулердің кең шектерінде үнемі өзгеріп отыратын ж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ғ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айларда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ыс істейді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846144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Өлшем.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Өлшем деп берілген мөлшердегі физикалық шаманы жаңғырту (сақтау) үшін қолданылатын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ы. Өлшемнің бүл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а кірлер,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ынд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ың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шт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өлшемдері, т.б. жатады.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әжірибеде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бір мәнді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және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көп мәнді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өлшемдер, сондай-ақ өлшемдер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жиын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және магазині қолданылады.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Бір мәнді өлшемдер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бір мөлшердегі шамаларды жаңғыртады (кірлер).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Көп мәнді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өлшемдер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физикалық шаманың бірнеше өлшемдерін бейнелейді. Мысалы, миллиметрлік сызғыш заттың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ындығын сантиметрмен де, миллиметрмен де көрсете алад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нің жиындары мен магазиндері шаманың кейбір аралық немесе қосынды мәндерін бейнелеуге мүмкіндік алу үшін бір мәнді және көп мәнді өлшемдердің бірігуін көр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етеді. </a:t>
            </a: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Өлшемдер жиыны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әр түрлі мөлшердегі біртекті өлшемдердің жиынтығын көрсетеді, ол жиынды қолдануға мүмкіндік береді, мысалы, лабораториялық кір жиыны. </a:t>
            </a: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Өлшемдер магазині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- бір механикалық бүтінге конструктивті біріктірілген өлшемдер магазині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ір мәнді өлшемдерге стандартты үлгілер және стандартты заттар жатады. </a:t>
            </a: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Стандартты үлгі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- белгілі бір сипаттаманың сандық мәнін орнату мақсатында метрологиялық аттест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ялауға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шырайтын, қажетті түрде р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імделген заттың белгілі мөлшері (пробасы). Бұл сипаттама (немесе қасиет) сыр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 ортаның белгіленген жағдайларында мәні белгілі шама болып табылад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Өлшемдерді пайдаланганда олардың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номиналд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және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нақт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мәндерін, сондай-ақ өлшем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қателігі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мен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разрядын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(дәрежесін) ескеру қажет.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Номиналд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деп өлшемде көрсетілген мәнді атайды. Өлшемнің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нақт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мәні ресми эталонды пайдаланған жоғары сапалы өлшеу нәтижесі ретінде арнайы куәлікте көрсетілуі керек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оминалды және нақты мәндердің айырмасы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өлшемнің қателігі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деп аталады. Қателікке таңбасы бойынша қарама-қарсы шама өлшемде көрсетілген номиналды мәнге түзетуді білдіреді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64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ттестациялау кезінде қателіктер табылуы мүмкін болғандықтан, өлшемдер разрядтарға бөлінеді (1, 2-разрядты) және разрядты эталондар деп аталады (үлгілі өлшеуіш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). Оларды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ды салыстырып тексеру үшін пайдаланады. Өлшем қателіктерінің шамасы өлшемдерді топтарға (кластарға) бөлу үшін негіз болад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6-01T03:58:3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